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798-AD83-4CBC-AFC3-42B4D91F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1AB-DE05-4A90-85DB-387175D0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B1A-9331-4FEC-9AEC-CE4DC490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30C-DA34-4993-ADDF-21BDA662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878-D220-490B-973D-617F9740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1DA-C8B3-444A-B0FF-3B177F03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69B-8C78-4664-8667-9B6E92E1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5A6-C384-4243-8A24-4E6FDF30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4AF-BE3C-4ACB-96F0-E1C32F4D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000-3BFB-45B1-8AA3-0F6FD3EC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5D0-7256-4070-A207-8CD1CD97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154-6986-499B-A644-40B3D089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58B9-3128-4C4C-9E7E-E020A5FF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Book of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Vaiva, Courtney, and A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 with Nijole Pup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Methods of Traveling to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400" t="13500" r="2400" b="4500"/>
          <a:stretch/>
        </p:blipFill>
        <p:spPr>
          <a:xfrm>
            <a:off x="6248520" y="1676520"/>
            <a:ext cx="2198520" cy="176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666880" cy="145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2222" t="8470" r="2222" b="8470"/>
          <a:stretch/>
        </p:blipFill>
        <p:spPr>
          <a:xfrm>
            <a:off x="3352680" y="1523880"/>
            <a:ext cx="254952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2133720" cy="14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1339" t="3707" r="1339" b="1853"/>
          <a:stretch/>
        </p:blipFill>
        <p:spPr>
          <a:xfrm>
            <a:off x="2514600" y="4114800"/>
            <a:ext cx="2076480" cy="149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724280" y="5257800"/>
            <a:ext cx="2000520" cy="136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1125" t="2535" r="1125" b="2535"/>
          <a:stretch/>
        </p:blipFill>
        <p:spPr>
          <a:xfrm>
            <a:off x="6858000" y="4572000"/>
            <a:ext cx="2144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1:06:34Z</dcterms:created>
  <dc:creator>Student</dc:creator>
  <dc:description/>
  <dc:language>en-US</dc:language>
  <cp:lastModifiedBy>Courtney</cp:lastModifiedBy>
  <dcterms:modified xsi:type="dcterms:W3CDTF">2009-01-13T00:17:01Z</dcterms:modified>
  <cp:revision>3</cp:revision>
  <dc:subject/>
  <dc:title>Log Book of 20th century </dc:title>
</cp:coreProperties>
</file>